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5DA-CEE2-4EF3-A356-B2F709B9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9EC-CF32-4021-B8C2-0A0C0408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8CC-6547-490D-B7C1-159B41DF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3B2-AF00-48C4-AE77-3C8E63F7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F71-857A-4EC8-BEAC-0B0D4B5D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A70-8F9C-49E2-BF32-CEBB2EC5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2D6-29E8-420F-B0F2-D9F856AB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345-C2BE-4465-A794-9690D31C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388-2FF2-4320-A683-9824800C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1F6-BE4A-450F-80FB-B44A015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E1A-24C4-4613-944E-0D3C072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043-221A-41CE-8A86-77C64787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309B-1AE0-447F-B473-11924344F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Storybook"/>
              </a:rPr>
              <a:t>Bunkhou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Storybook"/>
              </a:rPr>
              <a:t>Cords (of wood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Ant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Syllable brea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Story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Storybook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9-01-22T18:30:34Z</dcterms:modified>
  <cp:revision>1</cp:revision>
  <dc:subject/>
  <dc:title>PowerPoint Presentation</dc:title>
</cp:coreProperties>
</file>